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23.png" ContentType="image/png"/>
  <Override PartName="/ppt/media/image13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10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2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2D8-2191-4008-AF32-6B9F3CF2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95F-8588-40A3-8C83-3D1EEADD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CFB-F2EE-4864-A2D6-6EC501D1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F5B-97C1-4413-B343-A208D29A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77D-09A5-43CB-B89F-12F8BC67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39C-01EA-4843-BCB8-A80C33CF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A35-8A09-421F-9CC7-7235BFDF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7C7-611F-4178-9EE1-B98AE936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8EB-8C91-42A7-B3EB-0CAF9CBA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B3E-5320-47A3-82DD-60DF32B3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F19-D0CF-4693-8287-2938BC45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BCD-10BC-4A84-BAE4-9BE653D6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3A90-8CC9-457C-837C-DBEB05A05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aea1"/>
                </a:solidFill>
                <a:latin typeface="Arial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aea1"/>
                </a:solidFill>
                <a:latin typeface="Arial"/>
              </a:rPr>
              <a:t>Por Kaylee Kave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1384600">
            <a:off x="5790960" y="609480"/>
            <a:ext cx="2457360" cy="185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288600">
            <a:off x="685440" y="304560"/>
            <a:ext cx="1781280" cy="2571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21463200">
            <a:off x="380880" y="4114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251400">
            <a:off x="5790960" y="4723920"/>
            <a:ext cx="292392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ff"/>
                </a:solidFill>
                <a:latin typeface="Antique Olive Roman"/>
              </a:rPr>
              <a:t>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5480" y="1523880"/>
            <a:ext cx="61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ntique Olive Roman"/>
              </a:rPr>
              <a:t>Para el desayuno me gusta comer los huevos revue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500280" y="2357280"/>
            <a:ext cx="2143440" cy="2143440"/>
            <a:chOff x="3500280" y="2357280"/>
            <a:chExt cx="2143440" cy="2143440"/>
          </a:xfrm>
        </p:grpSpPr>
        <p:sp>
          <p:nvSpPr>
            <p:cNvPr id="50" name=""/>
            <p:cNvSpPr txBox="1"/>
            <p:nvPr/>
          </p:nvSpPr>
          <p:spPr>
            <a:xfrm>
              <a:off x="3500280" y="2357280"/>
              <a:ext cx="2143440" cy="214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429000" y="2438280"/>
            <a:ext cx="2562120" cy="179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400800" y="1981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371600" y="4876920"/>
            <a:ext cx="1473120" cy="1628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4191120" y="4952880"/>
            <a:ext cx="1752480" cy="154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7280" y="441972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os huevos revuel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8280" y="43434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as tort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98320" y="4267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as f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920" y="556272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El zum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70440" y="533412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a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7010280" y="5257800"/>
            <a:ext cx="1971720" cy="135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6280" y="487692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os gof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Georgia"/>
              </a:rPr>
              <a:t>El Almuer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2743200" cy="2036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429000" y="1828800"/>
            <a:ext cx="2352600" cy="199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809880" y="4648320"/>
            <a:ext cx="1828800" cy="1933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66160" y="38862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Georgia"/>
              </a:rPr>
              <a:t>La ens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248520" y="1600200"/>
            <a:ext cx="2286000" cy="1268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04920" y="4572000"/>
            <a:ext cx="1638360" cy="2114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781680" y="4114800"/>
            <a:ext cx="1724040" cy="137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68480" y="39258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El bocadillo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19800" y="312408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ff66"/>
                </a:solidFill>
                <a:latin typeface="Bookman Old Style"/>
              </a:rPr>
              <a:t>La mantequill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ff66"/>
                </a:solidFill>
                <a:latin typeface="Bookman Old Style"/>
              </a:rPr>
              <a:t>maní y jalea sandw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90520" y="468792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Las pata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86200" y="579132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El zum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19000" y="548640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La p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76720" y="192240"/>
            <a:ext cx="305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Para el almuerzo me gu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el bocadillo con lechug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Bookman Old Style"/>
              </a:rPr>
              <a:t>tomates y já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Verdana"/>
              </a:rPr>
              <a:t>La C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2333880" cy="196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19920" y="160020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57200" y="4038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019920" y="4267080"/>
            <a:ext cx="250488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962520" y="2057400"/>
            <a:ext cx="1344600" cy="2009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673240" y="609480"/>
            <a:ext cx="28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Para la cena me gu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la carne con papas fritas</a:t>
            </a:r>
            <a:r>
              <a:rPr b="0" lang="en-US" sz="1800" spc="-1" strike="noStrike">
                <a:solidFill>
                  <a:srgbClr val="bbe0e3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62880" y="10666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El bis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63160" y="58230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El t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09600" y="41464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La limo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35053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La hamburgesa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36000" y="55627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La 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Verdana"/>
              </a:rPr>
              <a:t>Los Dersi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1800360" cy="1617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657600" y="152388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172200" y="2082960"/>
            <a:ext cx="2457360" cy="1650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66680" y="41911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553080" y="4191120"/>
            <a:ext cx="1838520" cy="1830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73960" y="346068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Verdana"/>
              </a:rPr>
              <a:t>La magde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3360" y="399420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Verdana"/>
              </a:rPr>
              <a:t>El he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73600" y="155592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Verdana"/>
              </a:rPr>
              <a:t>El brow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7680" y="513720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Verdana"/>
              </a:rPr>
              <a:t>La t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6920" y="50292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Verdana"/>
              </a:rPr>
              <a:t>La gal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22400" y="412920"/>
            <a:ext cx="258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Verdana"/>
              </a:rPr>
              <a:t>Para los dersierto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Verdana"/>
              </a:rPr>
              <a:t>gusta el he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12:04Z</dcterms:created>
  <dc:creator>kaveneykay</dc:creator>
  <dc:description/>
  <dc:language>en-US</dc:language>
  <cp:lastModifiedBy>kaveneykay</cp:lastModifiedBy>
  <dcterms:modified xsi:type="dcterms:W3CDTF">2012-04-05T17:15:40Z</dcterms:modified>
  <cp:revision>5</cp:revision>
  <dc:subject/>
  <dc:title>Las Comidas</dc:title>
</cp:coreProperties>
</file>